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7AC6-391F-4F75-A03A-A8ADA3AFF7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7EF4D-7DE4-4127-B978-1B246005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5F401-D4AE-4124-9BAE-DD562EBA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BA5E-B5FB-4CFC-8E36-5C89E60118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EC152-1F03-4DE5-BB15-B0D29359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25C9B-57DE-4AEF-9632-0A52B079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65870-BB09-41D3-B921-A1EC333A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132DC-3780-401C-872C-254830AD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5E739-FA85-41F3-850E-43B111F1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8B3FF-273B-4A4E-AE2D-B0C5E5F8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93AE3-5495-46AD-90DE-E1A42684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26A63-D0D2-4968-B34D-07B53935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63E55-08C9-49E4-8117-A22C72DD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E0759-3C71-4024-867F-E6F5AC18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22E33-97F9-4332-A315-5AADFFE5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B3A6B-B217-41ED-B259-81CFCDE8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0967C-1907-4964-BCC3-C1FA93A2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43E13-0A45-44E8-B7BF-A1A7A1BA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CC24-EA41-486A-8995-9CF61C98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86B25-BD53-4D91-A58D-AFA10057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A904-CAE4-4FC9-BBE0-E7A7EC57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AD49-A450-4EBE-B61D-A17BE9B7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E792D-B1EF-4FB9-9F07-73A2180D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EF0B4-A0A9-4222-8AE7-20576A92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59BC-FD2A-4A4A-9704-2226B38C99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BCDB-E7B5-496A-8828-88ED711B7B01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000" y="3141360"/>
            <a:ext cx="5616360" cy="1439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脊髓损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588000" y="57229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姚立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40431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三、康复护理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损伤平面的评定 脊髓损伤平面是指保留身体双侧正常感觉、运动功能的最低脊髓节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损伤节段  根据各节段脊髓所支配肌肉的肌力检查及皮肤感觉检查来判定；主要以运动损伤平面来确定，但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节段，以感觉损伤平面确定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71280" y="1341000"/>
            <a:ext cx="7561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检查：检查身体两侧各自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肌节中关键肌的肌力，采用徒手肌力评定，根据肌力至少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的那块关键肌来确定运动平面，要求该平面以上的节段支配的关键肌肌力必须是正常的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于应用徒手肌力检查无法检查的肌节，运动平面可参考感觉平面来确定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26920" y="1599840"/>
            <a:ext cx="784872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检查：是检查身体两侧各自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皮节关键点的感觉。每个关键点要检查两种感觉，即针刺觉和轻触觉，并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等级分别评定打分。同时做肛门周围感觉检查。通过感觉项目的检查可以判断神经平面（感觉平面）和部分保留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000" y="1197000"/>
            <a:ext cx="728316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程度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        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美国脊髓损伤学会（</a:t>
            </a:r>
            <a:r>
              <a:rPr b="1" lang="en-US" sz="2000" spc="-1" strike="noStrike">
                <a:solidFill>
                  <a:srgbClr val="fe230c"/>
                </a:solidFill>
                <a:latin typeface="宋体"/>
                <a:ea typeface="宋体"/>
              </a:rPr>
              <a:t>ASIA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）分类法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2492280"/>
          <a:ext cx="8207280" cy="379584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脊髓损伤类型                       运动感觉功能状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5120">
                <a:tc>
                  <a:txBody>
                    <a:bodyPr anchor="t">
                      <a:noAutofit/>
                    </a:bodyPr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A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完全性损害       在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无任何感觉及运动功能保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B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包括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存在感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功能，但不存在运动功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C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的肌力小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D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肌力大于或等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E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正常                     感觉和运动均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26920" y="1052280"/>
            <a:ext cx="7467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震惊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否定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抑郁或焦虑反应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对抗独立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适应阶段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280" y="2637000"/>
            <a:ext cx="77770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评定：截瘫患者可采用改良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arth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指数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60469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早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2852640"/>
            <a:ext cx="79311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位：骨折稳定后，提倡患者仰卧、侧卧及俯卧位变换，并逐步增加俯卧位的耐力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54764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护理和压疮防治：卧床患者每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h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翻身一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预防：关键在于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分度：根据其严重程度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有红斑，但皮肤完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有破损，累及表皮或真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破坏深达皮肤全层，但未穿过皮下组织，筋膜之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Ⅳ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组织破溃深达肌肉或骨组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1116000" y="1916280"/>
            <a:ext cx="72010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）压疮临床分期：根据压疮的表现一般分为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期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淤血红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炎性浸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浅度溃烂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坏死溃疡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全身治疗：压疮患者应给予高蛋白质、高热量、高纤维素饮食，还可给予静脉滴注血浆、白蛋白、丙种球蛋白等以增强全身抵抗力。同时使用有效抗生素控制感染，防止感染扩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局部治疗：局部治疗的原则主要是解除压迫，保护创面，促进愈合。根据压疮的不同时期，选择合适的治疗方法，如物理治疗、药物治疗、内膜覆盖、空气隔绝后持续吹氧法以及外科手术等方法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826920" y="952560"/>
            <a:ext cx="64090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11280" y="1700280"/>
            <a:ext cx="8064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脊髓损伤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pinal cord injur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CI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指由于外伤或疾病等因素引起的脊髓结构和功能的损害，导致损伤水平以下运动、感觉和自主神经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脊髓损伤的分类：外伤性脊髓损伤及非外伤性脊髓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064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呼吸道护理：主要是呼吸及排痰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动或被动活动：适当的关节活动是预防压疮、关节挛缩等问题的重要措施。当患者被动地躺在床上和翻身架上时，各生理轴向全范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天，每次每个关节应至少活动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4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：分为上运动神经源性膀胱和下运动神经源性膀胱。上运动神经源性膀胱的处理方法包括留置导尿管、间歇导尿和用避孕套外接尿液（对男性而言）。下运动神经源性膀胱的处理方法为间歇导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806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的间歇导尿康复护理方法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导尿：急性期患者需留置导尿管持续导尿，随着病情的恢复逐渐改为间歇开放导尿和间歇导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诱发逼尿肌反射排尿法：寻找患者身体的触发点，刺激排尿。如下腹、大腿内侧及耻骨处，用敲击或冰敷可刺激排尿，也可嘱患者自行牵拉阴毛触发排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826920" y="184464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Crede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方法：将手掌放在膀胱区上面触摸到膀胱底部后，再缓缓向下压挤中间，不要停顿或放松。对痉挛性膀胱或膀胱输尿管反流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膀胱功能训练：要求按时饮水及间歇开放导尿管。饮水量控制在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1600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0ml/d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ml/2h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并开放导尿管一次，入睡后可持续引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82087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便控制障碍：脊髓损伤患者常表现为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合理的营养调配可以改善便秘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导患者定时排便：教会家属用手指按摩直肠诱发排便反射，严重便秘者需手工清除大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治疗：包括果导、番泻叶、乳果糖、开塞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7858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直立活动：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摇床，逐步抬高床头角度，患者有不适时即放下，维持时间逐步延长。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斜板或电动倾斜床，逐步让患者处于直立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4" descr="Y83{N2)[)_I%DZC1B~M%XKR"/>
          <p:cNvPicPr/>
          <p:nvPr/>
        </p:nvPicPr>
        <p:blipFill>
          <a:blip r:embed="rId1"/>
          <a:stretch/>
        </p:blipFill>
        <p:spPr>
          <a:xfrm>
            <a:off x="5076720" y="4292640"/>
            <a:ext cx="2911680" cy="208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M)KKDF1N$XKTY_]U_QW4BS1"/>
          <p:cNvPicPr/>
          <p:nvPr/>
        </p:nvPicPr>
        <p:blipFill>
          <a:blip r:embed="rId2"/>
          <a:stretch/>
        </p:blipFill>
        <p:spPr>
          <a:xfrm>
            <a:off x="1476360" y="4292640"/>
            <a:ext cx="2695680" cy="2047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55280" y="1483920"/>
            <a:ext cx="7467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性肌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8" name="Picture 4" descr="$13RHVFRJBH$H8MBS91}Y9Q"/>
          <p:cNvPicPr/>
          <p:nvPr/>
        </p:nvPicPr>
        <p:blipFill>
          <a:blip r:embed="rId1"/>
          <a:stretch/>
        </p:blipFill>
        <p:spPr>
          <a:xfrm>
            <a:off x="1763640" y="2349360"/>
            <a:ext cx="2219400" cy="19148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633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中后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假肢和矫形器的使用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619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并发症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638676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泌尿系统并发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下肢深静脉血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位骨化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 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痉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骨质疏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8920" y="1196640"/>
            <a:ext cx="446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五、康复护理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调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调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院后的继续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防止意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回归社会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61928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410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2133360"/>
            <a:ext cx="8291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力：主要表现为脊髓损伤平面以下肌力减退或消失，造成自主运动功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张力：主要表现为脊髓损伤平面以下肌张力的增加或降低，影响运动功能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684360" y="177336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反射功能：主要表现为脊髓损伤平面以下反射消失、减弱或亢进，出现病理反射。通常把涉及双下肢、部分或全部躯干的损伤称为截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para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，四肢、躯干部分或全部均受累者称为四肢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quadri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6985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障碍：脊髓损伤平面以下感觉（痛温觉、触压觉和本体觉）的减退、消失或感觉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4000" y="105228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痉挛性或反射性膀胱：是指膀胱充盈时，自动反射会触发其排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无力性或非反射性膀胱：是指膀胱对刺激无反射或反射减弱。当膀胱充盈时，患者无法感知，往往出现膀胱壁的过度扩张或延伸，造成尿液反流至输尿管和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71280" y="1341360"/>
            <a:ext cx="74674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结肠、直肠的蠕动运动麻痹而粪便变硬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肛门括约肌瘫痪，直肠内的粪便溢出而出现便失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7058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主神经功能障碍：高热、心动过缓、体位性低血压、皮肤脱屑及水肿、角化过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4678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并发症：压疮、尿路感染、呼吸系统并发症、排便功能障碍、痉挛、神经痛、关节挛缩、深静脉血栓与肺栓塞、异位骨化、骨质疏松和高钙血症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28:13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